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ED61E-836B-4EA9-9580-FD8DF5288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CDF2-86BD-475A-BE26-0C2F1662D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2CC6-E21C-460E-B7FC-95CDED062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4125-60FC-4AB2-9EBC-B575DCD0F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4CAF-9325-496D-86B9-9C2017D8EE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7975-6257-4BC9-A151-B03479109A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4CC4-430C-40C2-BC13-D279B1EBA2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F064-0D8E-4AF4-ABF1-6FC8CFBC51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2FB07-29E5-4491-94E3-2641408AC1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7093-35E6-4A4A-BB73-A46EE4A369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3F1F-7996-45CA-8331-A549D7E69C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0A61-418D-4614-AAE1-7D9D5AABD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21E1E-EF51-441C-A583-1B8BBCF6AB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4EA80-EAB1-4B54-840E-2F07EBCA5C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A3EF-1843-4D1D-A808-3EE97084E1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0950-B369-41FE-8B78-C97CC2D9F8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FC7F-03FD-4BD2-B790-1CEE6980D9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0168-791C-49CE-8BF4-FFFBB758B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3ADE-86C1-4B90-9BC9-BABB816F8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4E28-B37D-48EC-9FF4-E71BC1EE6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F04C-AF71-4E28-97C7-A5D4AE477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6A4B-F808-4E88-8932-C3254F14E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7C04-F4B0-4459-A1A0-696ED9CE14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0A87-9FFB-4575-8C41-CB8659E01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80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27C3-973B-4DA2-906C-22DDEBF3C9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5cc"/>
            </a:gs>
            <a:gs pos="100000">
              <a:srgbClr val="0026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40" name="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20"/>
                  </a:moveTo>
                  <a:lnTo>
                    <a:pt x="21600" y="0"/>
                  </a:lnTo>
                  <a:lnTo>
                    <a:pt x="21058" y="1291"/>
                  </a:lnTo>
                  <a:lnTo>
                    <a:pt x="20335" y="2671"/>
                  </a:lnTo>
                  <a:lnTo>
                    <a:pt x="18889" y="4972"/>
                  </a:lnTo>
                  <a:lnTo>
                    <a:pt x="17292" y="7272"/>
                  </a:lnTo>
                  <a:lnTo>
                    <a:pt x="15123" y="9573"/>
                  </a:lnTo>
                  <a:lnTo>
                    <a:pt x="12773" y="11950"/>
                  </a:lnTo>
                  <a:lnTo>
                    <a:pt x="10062" y="14328"/>
                  </a:lnTo>
                  <a:lnTo>
                    <a:pt x="7019" y="16769"/>
                  </a:lnTo>
                  <a:lnTo>
                    <a:pt x="3766" y="19146"/>
                  </a:lnTo>
                  <a:lnTo>
                    <a:pt x="0" y="21600"/>
                  </a:lnTo>
                  <a:lnTo>
                    <a:pt x="331" y="21600"/>
                  </a:lnTo>
                  <a:lnTo>
                    <a:pt x="4127" y="19146"/>
                  </a:lnTo>
                  <a:lnTo>
                    <a:pt x="7381" y="16769"/>
                  </a:lnTo>
                  <a:lnTo>
                    <a:pt x="10423" y="14328"/>
                  </a:lnTo>
                  <a:lnTo>
                    <a:pt x="13135" y="11950"/>
                  </a:lnTo>
                  <a:lnTo>
                    <a:pt x="15485" y="9573"/>
                  </a:lnTo>
                  <a:lnTo>
                    <a:pt x="17623" y="7272"/>
                  </a:lnTo>
                  <a:lnTo>
                    <a:pt x="19250" y="4972"/>
                  </a:lnTo>
                  <a:lnTo>
                    <a:pt x="20696" y="2671"/>
                  </a:lnTo>
                  <a:lnTo>
                    <a:pt x="21238" y="1828"/>
                  </a:lnTo>
                  <a:lnTo>
                    <a:pt x="21600" y="920"/>
                  </a:lnTo>
                  <a:lnTo>
                    <a:pt x="21600" y="920"/>
                  </a:lnTo>
                  <a:close/>
                  <a:moveTo>
                    <a:pt x="21600" y="92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16787" y="5462"/>
                  </a:lnTo>
                  <a:lnTo>
                    <a:pt x="11688" y="10924"/>
                  </a:lnTo>
                  <a:lnTo>
                    <a:pt x="5844" y="16386"/>
                  </a:lnTo>
                  <a:lnTo>
                    <a:pt x="0" y="21600"/>
                  </a:lnTo>
                  <a:lnTo>
                    <a:pt x="688" y="21600"/>
                  </a:lnTo>
                  <a:lnTo>
                    <a:pt x="6532" y="16634"/>
                  </a:lnTo>
                  <a:lnTo>
                    <a:pt x="11688" y="11669"/>
                  </a:lnTo>
                  <a:lnTo>
                    <a:pt x="21600" y="993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4629" y="21600"/>
                  </a:lnTo>
                  <a:lnTo>
                    <a:pt x="12343" y="12706"/>
                  </a:lnTo>
                  <a:lnTo>
                    <a:pt x="21600" y="5082"/>
                  </a:lnTo>
                  <a:lnTo>
                    <a:pt x="21600" y="0"/>
                  </a:lnTo>
                  <a:lnTo>
                    <a:pt x="10800" y="11435"/>
                  </a:lnTo>
                  <a:lnTo>
                    <a:pt x="0" y="21600"/>
                  </a:lnTo>
                  <a:lnTo>
                    <a:pt x="0" y="21600"/>
                  </a:lnTo>
                  <a:close/>
                  <a:moveTo>
                    <a:pt x="0" y="21600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44" name="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18000" y="21600"/>
                    </a:lnTo>
                    <a:lnTo>
                      <a:pt x="21600" y="21600"/>
                    </a:lnTo>
                    <a:lnTo>
                      <a:pt x="360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979" y="0"/>
                    </a:moveTo>
                    <a:lnTo>
                      <a:pt x="1490" y="0"/>
                    </a:lnTo>
                    <a:lnTo>
                      <a:pt x="5214" y="1081"/>
                    </a:lnTo>
                    <a:lnTo>
                      <a:pt x="8938" y="2222"/>
                    </a:lnTo>
                    <a:lnTo>
                      <a:pt x="11917" y="3448"/>
                    </a:lnTo>
                    <a:lnTo>
                      <a:pt x="14897" y="4739"/>
                    </a:lnTo>
                    <a:lnTo>
                      <a:pt x="16386" y="6061"/>
                    </a:lnTo>
                    <a:lnTo>
                      <a:pt x="18621" y="7442"/>
                    </a:lnTo>
                    <a:lnTo>
                      <a:pt x="19366" y="8848"/>
                    </a:lnTo>
                    <a:lnTo>
                      <a:pt x="20110" y="10320"/>
                    </a:lnTo>
                    <a:lnTo>
                      <a:pt x="19366" y="13232"/>
                    </a:lnTo>
                    <a:lnTo>
                      <a:pt x="15641" y="16140"/>
                    </a:lnTo>
                    <a:lnTo>
                      <a:pt x="13407" y="17551"/>
                    </a:lnTo>
                    <a:lnTo>
                      <a:pt x="9683" y="18958"/>
                    </a:lnTo>
                    <a:lnTo>
                      <a:pt x="5214" y="20309"/>
                    </a:lnTo>
                    <a:lnTo>
                      <a:pt x="0" y="21600"/>
                    </a:lnTo>
                    <a:lnTo>
                      <a:pt x="1490" y="21600"/>
                    </a:lnTo>
                    <a:lnTo>
                      <a:pt x="6703" y="20309"/>
                    </a:lnTo>
                    <a:lnTo>
                      <a:pt x="11172" y="18928"/>
                    </a:lnTo>
                    <a:lnTo>
                      <a:pt x="14897" y="17551"/>
                    </a:lnTo>
                    <a:lnTo>
                      <a:pt x="17131" y="16110"/>
                    </a:lnTo>
                    <a:lnTo>
                      <a:pt x="20855" y="13202"/>
                    </a:lnTo>
                    <a:lnTo>
                      <a:pt x="21600" y="10290"/>
                    </a:lnTo>
                    <a:lnTo>
                      <a:pt x="20855" y="8848"/>
                    </a:lnTo>
                    <a:lnTo>
                      <a:pt x="20110" y="7442"/>
                    </a:lnTo>
                    <a:lnTo>
                      <a:pt x="17876" y="6061"/>
                    </a:lnTo>
                    <a:lnTo>
                      <a:pt x="16386" y="4709"/>
                    </a:lnTo>
                    <a:lnTo>
                      <a:pt x="13407" y="3448"/>
                    </a:lnTo>
                    <a:lnTo>
                      <a:pt x="10428" y="2222"/>
                    </a:lnTo>
                    <a:lnTo>
                      <a:pt x="6703" y="1081"/>
                    </a:lnTo>
                    <a:lnTo>
                      <a:pt x="2979" y="0"/>
                    </a:lnTo>
                    <a:lnTo>
                      <a:pt x="2979" y="0"/>
                    </a:lnTo>
                    <a:close/>
                    <a:moveTo>
                      <a:pt x="2979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213" y="10079"/>
                    </a:moveTo>
                    <a:lnTo>
                      <a:pt x="20439" y="8638"/>
                    </a:lnTo>
                    <a:lnTo>
                      <a:pt x="18892" y="7232"/>
                    </a:lnTo>
                    <a:lnTo>
                      <a:pt x="16958" y="5880"/>
                    </a:lnTo>
                    <a:lnTo>
                      <a:pt x="14701" y="4589"/>
                    </a:lnTo>
                    <a:lnTo>
                      <a:pt x="11993" y="3328"/>
                    </a:lnTo>
                    <a:lnTo>
                      <a:pt x="8511" y="2162"/>
                    </a:lnTo>
                    <a:lnTo>
                      <a:pt x="5029" y="1021"/>
                    </a:lnTo>
                    <a:lnTo>
                      <a:pt x="774" y="0"/>
                    </a:lnTo>
                    <a:lnTo>
                      <a:pt x="0" y="0"/>
                    </a:lnTo>
                    <a:lnTo>
                      <a:pt x="4256" y="1021"/>
                    </a:lnTo>
                    <a:lnTo>
                      <a:pt x="7737" y="2162"/>
                    </a:lnTo>
                    <a:lnTo>
                      <a:pt x="11219" y="3328"/>
                    </a:lnTo>
                    <a:lnTo>
                      <a:pt x="13927" y="4589"/>
                    </a:lnTo>
                    <a:lnTo>
                      <a:pt x="16184" y="5880"/>
                    </a:lnTo>
                    <a:lnTo>
                      <a:pt x="18118" y="7232"/>
                    </a:lnTo>
                    <a:lnTo>
                      <a:pt x="19666" y="8638"/>
                    </a:lnTo>
                    <a:lnTo>
                      <a:pt x="20439" y="10079"/>
                    </a:lnTo>
                    <a:lnTo>
                      <a:pt x="20826" y="11581"/>
                    </a:lnTo>
                    <a:lnTo>
                      <a:pt x="20439" y="13052"/>
                    </a:lnTo>
                    <a:lnTo>
                      <a:pt x="19666" y="14548"/>
                    </a:lnTo>
                    <a:lnTo>
                      <a:pt x="18118" y="16020"/>
                    </a:lnTo>
                    <a:lnTo>
                      <a:pt x="16571" y="17461"/>
                    </a:lnTo>
                    <a:lnTo>
                      <a:pt x="13927" y="18903"/>
                    </a:lnTo>
                    <a:lnTo>
                      <a:pt x="11219" y="20279"/>
                    </a:lnTo>
                    <a:lnTo>
                      <a:pt x="7737" y="21600"/>
                    </a:lnTo>
                    <a:lnTo>
                      <a:pt x="8511" y="21600"/>
                    </a:lnTo>
                    <a:lnTo>
                      <a:pt x="11993" y="20279"/>
                    </a:lnTo>
                    <a:lnTo>
                      <a:pt x="14701" y="18903"/>
                    </a:lnTo>
                    <a:lnTo>
                      <a:pt x="17344" y="17461"/>
                    </a:lnTo>
                    <a:lnTo>
                      <a:pt x="18892" y="16020"/>
                    </a:lnTo>
                    <a:lnTo>
                      <a:pt x="20439" y="14548"/>
                    </a:lnTo>
                    <a:lnTo>
                      <a:pt x="21213" y="13052"/>
                    </a:lnTo>
                    <a:lnTo>
                      <a:pt x="21600" y="11581"/>
                    </a:lnTo>
                    <a:lnTo>
                      <a:pt x="21213" y="10079"/>
                    </a:lnTo>
                    <a:lnTo>
                      <a:pt x="21213" y="10079"/>
                    </a:lnTo>
                    <a:close/>
                    <a:moveTo>
                      <a:pt x="21213" y="1007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0990" y="9629"/>
                    </a:moveTo>
                    <a:lnTo>
                      <a:pt x="20075" y="8458"/>
                    </a:lnTo>
                    <a:lnTo>
                      <a:pt x="18551" y="7292"/>
                    </a:lnTo>
                    <a:lnTo>
                      <a:pt x="16721" y="6151"/>
                    </a:lnTo>
                    <a:lnTo>
                      <a:pt x="14281" y="5010"/>
                    </a:lnTo>
                    <a:lnTo>
                      <a:pt x="11537" y="3809"/>
                    </a:lnTo>
                    <a:lnTo>
                      <a:pt x="8233" y="2612"/>
                    </a:lnTo>
                    <a:lnTo>
                      <a:pt x="4574" y="1351"/>
                    </a:lnTo>
                    <a:lnTo>
                      <a:pt x="610" y="0"/>
                    </a:lnTo>
                    <a:lnTo>
                      <a:pt x="0" y="0"/>
                    </a:lnTo>
                    <a:lnTo>
                      <a:pt x="4269" y="1351"/>
                    </a:lnTo>
                    <a:lnTo>
                      <a:pt x="7928" y="2612"/>
                    </a:lnTo>
                    <a:lnTo>
                      <a:pt x="10978" y="3839"/>
                    </a:lnTo>
                    <a:lnTo>
                      <a:pt x="13976" y="5010"/>
                    </a:lnTo>
                    <a:lnTo>
                      <a:pt x="16111" y="6181"/>
                    </a:lnTo>
                    <a:lnTo>
                      <a:pt x="17941" y="7322"/>
                    </a:lnTo>
                    <a:lnTo>
                      <a:pt x="19465" y="8458"/>
                    </a:lnTo>
                    <a:lnTo>
                      <a:pt x="20380" y="9629"/>
                    </a:lnTo>
                    <a:lnTo>
                      <a:pt x="20990" y="10950"/>
                    </a:lnTo>
                    <a:lnTo>
                      <a:pt x="20685" y="12301"/>
                    </a:lnTo>
                    <a:lnTo>
                      <a:pt x="20075" y="13678"/>
                    </a:lnTo>
                    <a:lnTo>
                      <a:pt x="18551" y="15119"/>
                    </a:lnTo>
                    <a:lnTo>
                      <a:pt x="16721" y="16620"/>
                    </a:lnTo>
                    <a:lnTo>
                      <a:pt x="13976" y="18212"/>
                    </a:lnTo>
                    <a:lnTo>
                      <a:pt x="10368" y="19858"/>
                    </a:lnTo>
                    <a:lnTo>
                      <a:pt x="6404" y="21600"/>
                    </a:lnTo>
                    <a:lnTo>
                      <a:pt x="7014" y="21600"/>
                    </a:lnTo>
                    <a:lnTo>
                      <a:pt x="10978" y="19858"/>
                    </a:lnTo>
                    <a:lnTo>
                      <a:pt x="14586" y="18212"/>
                    </a:lnTo>
                    <a:lnTo>
                      <a:pt x="17331" y="16620"/>
                    </a:lnTo>
                    <a:lnTo>
                      <a:pt x="19160" y="15119"/>
                    </a:lnTo>
                    <a:lnTo>
                      <a:pt x="20685" y="13678"/>
                    </a:lnTo>
                    <a:lnTo>
                      <a:pt x="21295" y="12301"/>
                    </a:lnTo>
                    <a:lnTo>
                      <a:pt x="21600" y="10950"/>
                    </a:lnTo>
                    <a:lnTo>
                      <a:pt x="20990" y="9629"/>
                    </a:lnTo>
                    <a:lnTo>
                      <a:pt x="20990" y="9629"/>
                    </a:lnTo>
                    <a:close/>
                    <a:moveTo>
                      <a:pt x="20990" y="962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109"/>
                    </a:moveTo>
                    <a:lnTo>
                      <a:pt x="20901" y="8668"/>
                    </a:lnTo>
                    <a:lnTo>
                      <a:pt x="19541" y="7232"/>
                    </a:lnTo>
                    <a:lnTo>
                      <a:pt x="17676" y="5880"/>
                    </a:lnTo>
                    <a:lnTo>
                      <a:pt x="15345" y="4559"/>
                    </a:lnTo>
                    <a:lnTo>
                      <a:pt x="12315" y="3298"/>
                    </a:lnTo>
                    <a:lnTo>
                      <a:pt x="8858" y="2132"/>
                    </a:lnTo>
                    <a:lnTo>
                      <a:pt x="4895" y="1021"/>
                    </a:lnTo>
                    <a:lnTo>
                      <a:pt x="466" y="0"/>
                    </a:lnTo>
                    <a:lnTo>
                      <a:pt x="0" y="0"/>
                    </a:lnTo>
                    <a:lnTo>
                      <a:pt x="4429" y="1021"/>
                    </a:lnTo>
                    <a:lnTo>
                      <a:pt x="8391" y="2132"/>
                    </a:lnTo>
                    <a:lnTo>
                      <a:pt x="11849" y="3298"/>
                    </a:lnTo>
                    <a:lnTo>
                      <a:pt x="14879" y="4559"/>
                    </a:lnTo>
                    <a:lnTo>
                      <a:pt x="17210" y="5880"/>
                    </a:lnTo>
                    <a:lnTo>
                      <a:pt x="19075" y="7232"/>
                    </a:lnTo>
                    <a:lnTo>
                      <a:pt x="20435" y="8668"/>
                    </a:lnTo>
                    <a:lnTo>
                      <a:pt x="21134" y="10109"/>
                    </a:lnTo>
                    <a:lnTo>
                      <a:pt x="21134" y="11641"/>
                    </a:lnTo>
                    <a:lnTo>
                      <a:pt x="20668" y="13172"/>
                    </a:lnTo>
                    <a:lnTo>
                      <a:pt x="19541" y="14669"/>
                    </a:lnTo>
                    <a:lnTo>
                      <a:pt x="17676" y="16140"/>
                    </a:lnTo>
                    <a:lnTo>
                      <a:pt x="15112" y="17581"/>
                    </a:lnTo>
                    <a:lnTo>
                      <a:pt x="12082" y="18958"/>
                    </a:lnTo>
                    <a:lnTo>
                      <a:pt x="8391" y="20309"/>
                    </a:lnTo>
                    <a:lnTo>
                      <a:pt x="3963" y="21600"/>
                    </a:lnTo>
                    <a:lnTo>
                      <a:pt x="4429" y="21600"/>
                    </a:lnTo>
                    <a:lnTo>
                      <a:pt x="8858" y="20309"/>
                    </a:lnTo>
                    <a:lnTo>
                      <a:pt x="12548" y="18958"/>
                    </a:lnTo>
                    <a:lnTo>
                      <a:pt x="15578" y="17581"/>
                    </a:lnTo>
                    <a:lnTo>
                      <a:pt x="18142" y="16140"/>
                    </a:lnTo>
                    <a:lnTo>
                      <a:pt x="20007" y="14669"/>
                    </a:lnTo>
                    <a:lnTo>
                      <a:pt x="21134" y="13172"/>
                    </a:lnTo>
                    <a:lnTo>
                      <a:pt x="21600" y="11641"/>
                    </a:lnTo>
                    <a:lnTo>
                      <a:pt x="21600" y="10109"/>
                    </a:lnTo>
                    <a:lnTo>
                      <a:pt x="21600" y="10109"/>
                    </a:lnTo>
                    <a:close/>
                    <a:moveTo>
                      <a:pt x="21600" y="1010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10440"/>
                    </a:moveTo>
                    <a:lnTo>
                      <a:pt x="21035" y="9058"/>
                    </a:lnTo>
                    <a:lnTo>
                      <a:pt x="19905" y="7712"/>
                    </a:lnTo>
                    <a:lnTo>
                      <a:pt x="18021" y="6361"/>
                    </a:lnTo>
                    <a:lnTo>
                      <a:pt x="15603" y="5040"/>
                    </a:lnTo>
                    <a:lnTo>
                      <a:pt x="12590" y="3748"/>
                    </a:lnTo>
                    <a:lnTo>
                      <a:pt x="9199" y="2462"/>
                    </a:lnTo>
                    <a:lnTo>
                      <a:pt x="5086" y="1201"/>
                    </a:lnTo>
                    <a:lnTo>
                      <a:pt x="377" y="0"/>
                    </a:lnTo>
                    <a:lnTo>
                      <a:pt x="0" y="0"/>
                    </a:lnTo>
                    <a:lnTo>
                      <a:pt x="4709" y="1201"/>
                    </a:lnTo>
                    <a:lnTo>
                      <a:pt x="8822" y="2462"/>
                    </a:lnTo>
                    <a:lnTo>
                      <a:pt x="12213" y="3748"/>
                    </a:lnTo>
                    <a:lnTo>
                      <a:pt x="15227" y="5040"/>
                    </a:lnTo>
                    <a:lnTo>
                      <a:pt x="17644" y="6361"/>
                    </a:lnTo>
                    <a:lnTo>
                      <a:pt x="19528" y="7712"/>
                    </a:lnTo>
                    <a:lnTo>
                      <a:pt x="20658" y="9058"/>
                    </a:lnTo>
                    <a:lnTo>
                      <a:pt x="21223" y="10440"/>
                    </a:lnTo>
                    <a:lnTo>
                      <a:pt x="21223" y="11851"/>
                    </a:lnTo>
                    <a:lnTo>
                      <a:pt x="20658" y="13262"/>
                    </a:lnTo>
                    <a:lnTo>
                      <a:pt x="19340" y="14669"/>
                    </a:lnTo>
                    <a:lnTo>
                      <a:pt x="17456" y="16080"/>
                    </a:lnTo>
                    <a:lnTo>
                      <a:pt x="14850" y="17491"/>
                    </a:lnTo>
                    <a:lnTo>
                      <a:pt x="11648" y="18903"/>
                    </a:lnTo>
                    <a:lnTo>
                      <a:pt x="7880" y="20249"/>
                    </a:lnTo>
                    <a:lnTo>
                      <a:pt x="3579" y="21600"/>
                    </a:lnTo>
                    <a:lnTo>
                      <a:pt x="3956" y="21600"/>
                    </a:lnTo>
                    <a:lnTo>
                      <a:pt x="8257" y="20249"/>
                    </a:lnTo>
                    <a:lnTo>
                      <a:pt x="12024" y="18903"/>
                    </a:lnTo>
                    <a:lnTo>
                      <a:pt x="15227" y="17491"/>
                    </a:lnTo>
                    <a:lnTo>
                      <a:pt x="17833" y="16110"/>
                    </a:lnTo>
                    <a:lnTo>
                      <a:pt x="19716" y="14699"/>
                    </a:lnTo>
                    <a:lnTo>
                      <a:pt x="21035" y="13292"/>
                    </a:lnTo>
                    <a:lnTo>
                      <a:pt x="21600" y="11851"/>
                    </a:lnTo>
                    <a:lnTo>
                      <a:pt x="21600" y="10440"/>
                    </a:lnTo>
                    <a:lnTo>
                      <a:pt x="21600" y="10440"/>
                    </a:lnTo>
                    <a:close/>
                    <a:moveTo>
                      <a:pt x="21600" y="104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449" y="10650"/>
                    </a:moveTo>
                    <a:lnTo>
                      <a:pt x="20847" y="9178"/>
                    </a:lnTo>
                    <a:lnTo>
                      <a:pt x="20270" y="8428"/>
                    </a:lnTo>
                    <a:lnTo>
                      <a:pt x="19668" y="7712"/>
                    </a:lnTo>
                    <a:lnTo>
                      <a:pt x="18765" y="6991"/>
                    </a:lnTo>
                    <a:lnTo>
                      <a:pt x="17862" y="6271"/>
                    </a:lnTo>
                    <a:lnTo>
                      <a:pt x="16658" y="5580"/>
                    </a:lnTo>
                    <a:lnTo>
                      <a:pt x="15303" y="4890"/>
                    </a:lnTo>
                    <a:lnTo>
                      <a:pt x="12318" y="3598"/>
                    </a:lnTo>
                    <a:lnTo>
                      <a:pt x="8856" y="2342"/>
                    </a:lnTo>
                    <a:lnTo>
                      <a:pt x="4817" y="1141"/>
                    </a:lnTo>
                    <a:lnTo>
                      <a:pt x="301" y="0"/>
                    </a:lnTo>
                    <a:lnTo>
                      <a:pt x="0" y="0"/>
                    </a:lnTo>
                    <a:lnTo>
                      <a:pt x="4516" y="1141"/>
                    </a:lnTo>
                    <a:lnTo>
                      <a:pt x="8555" y="2342"/>
                    </a:lnTo>
                    <a:lnTo>
                      <a:pt x="12017" y="3598"/>
                    </a:lnTo>
                    <a:lnTo>
                      <a:pt x="15002" y="4920"/>
                    </a:lnTo>
                    <a:lnTo>
                      <a:pt x="16357" y="5610"/>
                    </a:lnTo>
                    <a:lnTo>
                      <a:pt x="17561" y="6301"/>
                    </a:lnTo>
                    <a:lnTo>
                      <a:pt x="18464" y="7022"/>
                    </a:lnTo>
                    <a:lnTo>
                      <a:pt x="19367" y="7742"/>
                    </a:lnTo>
                    <a:lnTo>
                      <a:pt x="20120" y="8458"/>
                    </a:lnTo>
                    <a:lnTo>
                      <a:pt x="20546" y="9178"/>
                    </a:lnTo>
                    <a:lnTo>
                      <a:pt x="20998" y="9929"/>
                    </a:lnTo>
                    <a:lnTo>
                      <a:pt x="21148" y="10650"/>
                    </a:lnTo>
                    <a:lnTo>
                      <a:pt x="21299" y="11401"/>
                    </a:lnTo>
                    <a:lnTo>
                      <a:pt x="21148" y="12151"/>
                    </a:lnTo>
                    <a:lnTo>
                      <a:pt x="20847" y="12872"/>
                    </a:lnTo>
                    <a:lnTo>
                      <a:pt x="20546" y="13618"/>
                    </a:lnTo>
                    <a:lnTo>
                      <a:pt x="19969" y="14338"/>
                    </a:lnTo>
                    <a:lnTo>
                      <a:pt x="19217" y="15089"/>
                    </a:lnTo>
                    <a:lnTo>
                      <a:pt x="18163" y="15810"/>
                    </a:lnTo>
                    <a:lnTo>
                      <a:pt x="17109" y="16530"/>
                    </a:lnTo>
                    <a:lnTo>
                      <a:pt x="14701" y="17852"/>
                    </a:lnTo>
                    <a:lnTo>
                      <a:pt x="11866" y="19138"/>
                    </a:lnTo>
                    <a:lnTo>
                      <a:pt x="8404" y="20399"/>
                    </a:lnTo>
                    <a:lnTo>
                      <a:pt x="4516" y="21600"/>
                    </a:lnTo>
                    <a:lnTo>
                      <a:pt x="4817" y="21600"/>
                    </a:lnTo>
                    <a:lnTo>
                      <a:pt x="8705" y="20399"/>
                    </a:lnTo>
                    <a:lnTo>
                      <a:pt x="12167" y="19138"/>
                    </a:lnTo>
                    <a:lnTo>
                      <a:pt x="15002" y="17882"/>
                    </a:lnTo>
                    <a:lnTo>
                      <a:pt x="17410" y="16560"/>
                    </a:lnTo>
                    <a:lnTo>
                      <a:pt x="18464" y="15840"/>
                    </a:lnTo>
                    <a:lnTo>
                      <a:pt x="19518" y="15119"/>
                    </a:lnTo>
                    <a:lnTo>
                      <a:pt x="20270" y="14368"/>
                    </a:lnTo>
                    <a:lnTo>
                      <a:pt x="20847" y="13648"/>
                    </a:lnTo>
                    <a:lnTo>
                      <a:pt x="21148" y="12902"/>
                    </a:lnTo>
                    <a:lnTo>
                      <a:pt x="21449" y="12151"/>
                    </a:lnTo>
                    <a:lnTo>
                      <a:pt x="21600" y="11401"/>
                    </a:lnTo>
                    <a:lnTo>
                      <a:pt x="21449" y="10650"/>
                    </a:lnTo>
                    <a:lnTo>
                      <a:pt x="21449" y="10650"/>
                    </a:lnTo>
                    <a:close/>
                    <a:moveTo>
                      <a:pt x="21449" y="1065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609" y="9719"/>
                    </a:moveTo>
                    <a:lnTo>
                      <a:pt x="4349" y="8158"/>
                    </a:lnTo>
                    <a:lnTo>
                      <a:pt x="6089" y="6661"/>
                    </a:lnTo>
                    <a:lnTo>
                      <a:pt x="8553" y="5280"/>
                    </a:lnTo>
                    <a:lnTo>
                      <a:pt x="11162" y="3959"/>
                    </a:lnTo>
                    <a:lnTo>
                      <a:pt x="12032" y="3358"/>
                    </a:lnTo>
                    <a:lnTo>
                      <a:pt x="13772" y="2788"/>
                    </a:lnTo>
                    <a:lnTo>
                      <a:pt x="15511" y="2222"/>
                    </a:lnTo>
                    <a:lnTo>
                      <a:pt x="16381" y="1712"/>
                    </a:lnTo>
                    <a:lnTo>
                      <a:pt x="18121" y="1231"/>
                    </a:lnTo>
                    <a:lnTo>
                      <a:pt x="18991" y="781"/>
                    </a:lnTo>
                    <a:lnTo>
                      <a:pt x="20730" y="360"/>
                    </a:lnTo>
                    <a:lnTo>
                      <a:pt x="21600" y="0"/>
                    </a:lnTo>
                    <a:lnTo>
                      <a:pt x="19860" y="0"/>
                    </a:lnTo>
                    <a:lnTo>
                      <a:pt x="18991" y="360"/>
                    </a:lnTo>
                    <a:lnTo>
                      <a:pt x="17251" y="781"/>
                    </a:lnTo>
                    <a:lnTo>
                      <a:pt x="16381" y="1231"/>
                    </a:lnTo>
                    <a:lnTo>
                      <a:pt x="14642" y="1712"/>
                    </a:lnTo>
                    <a:lnTo>
                      <a:pt x="13772" y="2222"/>
                    </a:lnTo>
                    <a:lnTo>
                      <a:pt x="12032" y="2788"/>
                    </a:lnTo>
                    <a:lnTo>
                      <a:pt x="10293" y="3358"/>
                    </a:lnTo>
                    <a:lnTo>
                      <a:pt x="9423" y="3959"/>
                    </a:lnTo>
                    <a:lnTo>
                      <a:pt x="6958" y="5280"/>
                    </a:lnTo>
                    <a:lnTo>
                      <a:pt x="4349" y="6661"/>
                    </a:lnTo>
                    <a:lnTo>
                      <a:pt x="2609" y="8158"/>
                    </a:lnTo>
                    <a:lnTo>
                      <a:pt x="870" y="9719"/>
                    </a:lnTo>
                    <a:lnTo>
                      <a:pt x="0" y="11401"/>
                    </a:lnTo>
                    <a:lnTo>
                      <a:pt x="870" y="13022"/>
                    </a:lnTo>
                    <a:lnTo>
                      <a:pt x="1740" y="14609"/>
                    </a:lnTo>
                    <a:lnTo>
                      <a:pt x="3479" y="16110"/>
                    </a:lnTo>
                    <a:lnTo>
                      <a:pt x="5219" y="17581"/>
                    </a:lnTo>
                    <a:lnTo>
                      <a:pt x="8553" y="18988"/>
                    </a:lnTo>
                    <a:lnTo>
                      <a:pt x="12902" y="20309"/>
                    </a:lnTo>
                    <a:lnTo>
                      <a:pt x="18121" y="21600"/>
                    </a:lnTo>
                    <a:lnTo>
                      <a:pt x="19860" y="21600"/>
                    </a:lnTo>
                    <a:lnTo>
                      <a:pt x="14642" y="20309"/>
                    </a:lnTo>
                    <a:lnTo>
                      <a:pt x="10293" y="18988"/>
                    </a:lnTo>
                    <a:lnTo>
                      <a:pt x="6958" y="17581"/>
                    </a:lnTo>
                    <a:lnTo>
                      <a:pt x="5219" y="16140"/>
                    </a:lnTo>
                    <a:lnTo>
                      <a:pt x="3479" y="14609"/>
                    </a:lnTo>
                    <a:lnTo>
                      <a:pt x="2609" y="13052"/>
                    </a:lnTo>
                    <a:lnTo>
                      <a:pt x="1740" y="11401"/>
                    </a:lnTo>
                    <a:lnTo>
                      <a:pt x="2609" y="9719"/>
                    </a:lnTo>
                    <a:lnTo>
                      <a:pt x="2609" y="9719"/>
                    </a:lnTo>
                    <a:close/>
                    <a:moveTo>
                      <a:pt x="2609" y="971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300" y="10320"/>
                    </a:moveTo>
                    <a:lnTo>
                      <a:pt x="2167" y="8758"/>
                    </a:lnTo>
                    <a:lnTo>
                      <a:pt x="3901" y="7262"/>
                    </a:lnTo>
                    <a:lnTo>
                      <a:pt x="6068" y="5850"/>
                    </a:lnTo>
                    <a:lnTo>
                      <a:pt x="9102" y="4499"/>
                    </a:lnTo>
                    <a:lnTo>
                      <a:pt x="11703" y="3208"/>
                    </a:lnTo>
                    <a:lnTo>
                      <a:pt x="15098" y="2042"/>
                    </a:lnTo>
                    <a:lnTo>
                      <a:pt x="18132" y="961"/>
                    </a:lnTo>
                    <a:lnTo>
                      <a:pt x="21600" y="0"/>
                    </a:lnTo>
                    <a:lnTo>
                      <a:pt x="20733" y="0"/>
                    </a:lnTo>
                    <a:lnTo>
                      <a:pt x="17266" y="961"/>
                    </a:lnTo>
                    <a:lnTo>
                      <a:pt x="14304" y="2042"/>
                    </a:lnTo>
                    <a:lnTo>
                      <a:pt x="11270" y="3208"/>
                    </a:lnTo>
                    <a:lnTo>
                      <a:pt x="8235" y="4499"/>
                    </a:lnTo>
                    <a:lnTo>
                      <a:pt x="5635" y="5850"/>
                    </a:lnTo>
                    <a:lnTo>
                      <a:pt x="3468" y="7262"/>
                    </a:lnTo>
                    <a:lnTo>
                      <a:pt x="1734" y="8758"/>
                    </a:lnTo>
                    <a:lnTo>
                      <a:pt x="433" y="10320"/>
                    </a:lnTo>
                    <a:lnTo>
                      <a:pt x="0" y="11881"/>
                    </a:lnTo>
                    <a:lnTo>
                      <a:pt x="867" y="13382"/>
                    </a:lnTo>
                    <a:lnTo>
                      <a:pt x="2167" y="14879"/>
                    </a:lnTo>
                    <a:lnTo>
                      <a:pt x="3901" y="16290"/>
                    </a:lnTo>
                    <a:lnTo>
                      <a:pt x="6935" y="17701"/>
                    </a:lnTo>
                    <a:lnTo>
                      <a:pt x="10403" y="19048"/>
                    </a:lnTo>
                    <a:lnTo>
                      <a:pt x="14665" y="20339"/>
                    </a:lnTo>
                    <a:lnTo>
                      <a:pt x="19866" y="21600"/>
                    </a:lnTo>
                    <a:lnTo>
                      <a:pt x="20733" y="21600"/>
                    </a:lnTo>
                    <a:lnTo>
                      <a:pt x="15532" y="20339"/>
                    </a:lnTo>
                    <a:lnTo>
                      <a:pt x="11270" y="19048"/>
                    </a:lnTo>
                    <a:lnTo>
                      <a:pt x="7802" y="17701"/>
                    </a:lnTo>
                    <a:lnTo>
                      <a:pt x="4768" y="16320"/>
                    </a:lnTo>
                    <a:lnTo>
                      <a:pt x="3034" y="14879"/>
                    </a:lnTo>
                    <a:lnTo>
                      <a:pt x="1734" y="13412"/>
                    </a:lnTo>
                    <a:lnTo>
                      <a:pt x="867" y="11881"/>
                    </a:lnTo>
                    <a:lnTo>
                      <a:pt x="1300" y="10320"/>
                    </a:lnTo>
                    <a:lnTo>
                      <a:pt x="1300" y="10320"/>
                    </a:lnTo>
                    <a:close/>
                    <a:moveTo>
                      <a:pt x="1300" y="1032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lnTo>
                      <a:pt x="20989" y="0"/>
                    </a:lnTo>
                    <a:lnTo>
                      <a:pt x="16098" y="1111"/>
                    </a:lnTo>
                    <a:lnTo>
                      <a:pt x="12175" y="2312"/>
                    </a:lnTo>
                    <a:lnTo>
                      <a:pt x="8508" y="3538"/>
                    </a:lnTo>
                    <a:lnTo>
                      <a:pt x="5451" y="4859"/>
                    </a:lnTo>
                    <a:lnTo>
                      <a:pt x="3311" y="6241"/>
                    </a:lnTo>
                    <a:lnTo>
                      <a:pt x="1477" y="7652"/>
                    </a:lnTo>
                    <a:lnTo>
                      <a:pt x="306" y="9118"/>
                    </a:lnTo>
                    <a:lnTo>
                      <a:pt x="0" y="10620"/>
                    </a:lnTo>
                    <a:lnTo>
                      <a:pt x="306" y="12031"/>
                    </a:lnTo>
                    <a:lnTo>
                      <a:pt x="1223" y="13442"/>
                    </a:lnTo>
                    <a:lnTo>
                      <a:pt x="2394" y="14819"/>
                    </a:lnTo>
                    <a:lnTo>
                      <a:pt x="4534" y="16230"/>
                    </a:lnTo>
                    <a:lnTo>
                      <a:pt x="6979" y="17611"/>
                    </a:lnTo>
                    <a:lnTo>
                      <a:pt x="10036" y="18958"/>
                    </a:lnTo>
                    <a:lnTo>
                      <a:pt x="13704" y="20309"/>
                    </a:lnTo>
                    <a:lnTo>
                      <a:pt x="17626" y="21600"/>
                    </a:lnTo>
                    <a:lnTo>
                      <a:pt x="18238" y="21600"/>
                    </a:lnTo>
                    <a:lnTo>
                      <a:pt x="14315" y="20309"/>
                    </a:lnTo>
                    <a:lnTo>
                      <a:pt x="10647" y="18958"/>
                    </a:lnTo>
                    <a:lnTo>
                      <a:pt x="7591" y="17611"/>
                    </a:lnTo>
                    <a:lnTo>
                      <a:pt x="5145" y="16230"/>
                    </a:lnTo>
                    <a:lnTo>
                      <a:pt x="3006" y="14819"/>
                    </a:lnTo>
                    <a:lnTo>
                      <a:pt x="1783" y="13442"/>
                    </a:lnTo>
                    <a:lnTo>
                      <a:pt x="917" y="12031"/>
                    </a:lnTo>
                    <a:lnTo>
                      <a:pt x="611" y="10620"/>
                    </a:lnTo>
                    <a:lnTo>
                      <a:pt x="917" y="9118"/>
                    </a:lnTo>
                    <a:lnTo>
                      <a:pt x="2089" y="7652"/>
                    </a:lnTo>
                    <a:lnTo>
                      <a:pt x="3617" y="6241"/>
                    </a:lnTo>
                    <a:lnTo>
                      <a:pt x="6062" y="4859"/>
                    </a:lnTo>
                    <a:lnTo>
                      <a:pt x="9119" y="3538"/>
                    </a:lnTo>
                    <a:lnTo>
                      <a:pt x="12481" y="2312"/>
                    </a:lnTo>
                    <a:lnTo>
                      <a:pt x="16709" y="1111"/>
                    </a:lnTo>
                    <a:lnTo>
                      <a:pt x="21600" y="0"/>
                    </a:lnTo>
                    <a:lnTo>
                      <a:pt x="21600" y="0"/>
                    </a:lnTo>
                    <a:close/>
                    <a:moveTo>
                      <a:pt x="21600" y="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52" y="10740"/>
                    </a:moveTo>
                    <a:lnTo>
                      <a:pt x="903" y="9239"/>
                    </a:lnTo>
                    <a:lnTo>
                      <a:pt x="2032" y="7802"/>
                    </a:lnTo>
                    <a:lnTo>
                      <a:pt x="3613" y="6391"/>
                    </a:lnTo>
                    <a:lnTo>
                      <a:pt x="6096" y="5010"/>
                    </a:lnTo>
                    <a:lnTo>
                      <a:pt x="8994" y="3658"/>
                    </a:lnTo>
                    <a:lnTo>
                      <a:pt x="12606" y="2402"/>
                    </a:lnTo>
                    <a:lnTo>
                      <a:pt x="16896" y="1171"/>
                    </a:lnTo>
                    <a:lnTo>
                      <a:pt x="21600" y="0"/>
                    </a:lnTo>
                    <a:lnTo>
                      <a:pt x="21148" y="0"/>
                    </a:lnTo>
                    <a:lnTo>
                      <a:pt x="16445" y="1171"/>
                    </a:lnTo>
                    <a:lnTo>
                      <a:pt x="12155" y="2402"/>
                    </a:lnTo>
                    <a:lnTo>
                      <a:pt x="8542" y="3688"/>
                    </a:lnTo>
                    <a:lnTo>
                      <a:pt x="5645" y="5010"/>
                    </a:lnTo>
                    <a:lnTo>
                      <a:pt x="3161" y="6391"/>
                    </a:lnTo>
                    <a:lnTo>
                      <a:pt x="1580" y="7802"/>
                    </a:lnTo>
                    <a:lnTo>
                      <a:pt x="452" y="9269"/>
                    </a:lnTo>
                    <a:lnTo>
                      <a:pt x="0" y="10740"/>
                    </a:lnTo>
                    <a:lnTo>
                      <a:pt x="226" y="12181"/>
                    </a:lnTo>
                    <a:lnTo>
                      <a:pt x="1129" y="13588"/>
                    </a:lnTo>
                    <a:lnTo>
                      <a:pt x="2484" y="14999"/>
                    </a:lnTo>
                    <a:lnTo>
                      <a:pt x="4516" y="16380"/>
                    </a:lnTo>
                    <a:lnTo>
                      <a:pt x="7187" y="17761"/>
                    </a:lnTo>
                    <a:lnTo>
                      <a:pt x="10348" y="19078"/>
                    </a:lnTo>
                    <a:lnTo>
                      <a:pt x="13961" y="20369"/>
                    </a:lnTo>
                    <a:lnTo>
                      <a:pt x="18213" y="21600"/>
                    </a:lnTo>
                    <a:lnTo>
                      <a:pt x="18665" y="21600"/>
                    </a:lnTo>
                    <a:lnTo>
                      <a:pt x="14413" y="20369"/>
                    </a:lnTo>
                    <a:lnTo>
                      <a:pt x="10800" y="19078"/>
                    </a:lnTo>
                    <a:lnTo>
                      <a:pt x="7639" y="17761"/>
                    </a:lnTo>
                    <a:lnTo>
                      <a:pt x="4967" y="16380"/>
                    </a:lnTo>
                    <a:lnTo>
                      <a:pt x="2935" y="14999"/>
                    </a:lnTo>
                    <a:lnTo>
                      <a:pt x="1580" y="13588"/>
                    </a:lnTo>
                    <a:lnTo>
                      <a:pt x="677" y="12181"/>
                    </a:lnTo>
                    <a:lnTo>
                      <a:pt x="452" y="10740"/>
                    </a:lnTo>
                    <a:lnTo>
                      <a:pt x="452" y="10740"/>
                    </a:lnTo>
                    <a:close/>
                    <a:moveTo>
                      <a:pt x="452" y="1074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353" y="10500"/>
                    </a:moveTo>
                    <a:lnTo>
                      <a:pt x="852" y="8998"/>
                    </a:lnTo>
                    <a:lnTo>
                      <a:pt x="2087" y="7532"/>
                    </a:lnTo>
                    <a:lnTo>
                      <a:pt x="3850" y="6121"/>
                    </a:lnTo>
                    <a:lnTo>
                      <a:pt x="6318" y="4709"/>
                    </a:lnTo>
                    <a:lnTo>
                      <a:pt x="9287" y="3448"/>
                    </a:lnTo>
                    <a:lnTo>
                      <a:pt x="12989" y="2222"/>
                    </a:lnTo>
                    <a:lnTo>
                      <a:pt x="17045" y="1081"/>
                    </a:lnTo>
                    <a:lnTo>
                      <a:pt x="21600" y="0"/>
                    </a:lnTo>
                    <a:lnTo>
                      <a:pt x="21247" y="0"/>
                    </a:lnTo>
                    <a:lnTo>
                      <a:pt x="16692" y="1051"/>
                    </a:lnTo>
                    <a:lnTo>
                      <a:pt x="12637" y="2192"/>
                    </a:lnTo>
                    <a:lnTo>
                      <a:pt x="9140" y="3418"/>
                    </a:lnTo>
                    <a:lnTo>
                      <a:pt x="6142" y="4709"/>
                    </a:lnTo>
                    <a:lnTo>
                      <a:pt x="3673" y="6091"/>
                    </a:lnTo>
                    <a:lnTo>
                      <a:pt x="1734" y="7532"/>
                    </a:lnTo>
                    <a:lnTo>
                      <a:pt x="529" y="8998"/>
                    </a:lnTo>
                    <a:lnTo>
                      <a:pt x="0" y="10500"/>
                    </a:lnTo>
                    <a:lnTo>
                      <a:pt x="176" y="12031"/>
                    </a:lnTo>
                    <a:lnTo>
                      <a:pt x="852" y="13558"/>
                    </a:lnTo>
                    <a:lnTo>
                      <a:pt x="2263" y="15089"/>
                    </a:lnTo>
                    <a:lnTo>
                      <a:pt x="4379" y="16590"/>
                    </a:lnTo>
                    <a:lnTo>
                      <a:pt x="6671" y="17882"/>
                    </a:lnTo>
                    <a:lnTo>
                      <a:pt x="9287" y="19138"/>
                    </a:lnTo>
                    <a:lnTo>
                      <a:pt x="12460" y="20399"/>
                    </a:lnTo>
                    <a:lnTo>
                      <a:pt x="15987" y="21600"/>
                    </a:lnTo>
                    <a:lnTo>
                      <a:pt x="16340" y="21600"/>
                    </a:lnTo>
                    <a:lnTo>
                      <a:pt x="12813" y="20399"/>
                    </a:lnTo>
                    <a:lnTo>
                      <a:pt x="9639" y="19138"/>
                    </a:lnTo>
                    <a:lnTo>
                      <a:pt x="7024" y="17882"/>
                    </a:lnTo>
                    <a:lnTo>
                      <a:pt x="4731" y="16590"/>
                    </a:lnTo>
                    <a:lnTo>
                      <a:pt x="2616" y="15089"/>
                    </a:lnTo>
                    <a:lnTo>
                      <a:pt x="1205" y="13558"/>
                    </a:lnTo>
                    <a:lnTo>
                      <a:pt x="529" y="12031"/>
                    </a:lnTo>
                    <a:lnTo>
                      <a:pt x="353" y="10500"/>
                    </a:lnTo>
                    <a:lnTo>
                      <a:pt x="353" y="10500"/>
                    </a:lnTo>
                    <a:close/>
                    <a:moveTo>
                      <a:pt x="353" y="10500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465" y="9749"/>
                    </a:moveTo>
                    <a:lnTo>
                      <a:pt x="1239" y="8548"/>
                    </a:lnTo>
                    <a:lnTo>
                      <a:pt x="2477" y="7382"/>
                    </a:lnTo>
                    <a:lnTo>
                      <a:pt x="4155" y="6181"/>
                    </a:lnTo>
                    <a:lnTo>
                      <a:pt x="6477" y="4980"/>
                    </a:lnTo>
                    <a:lnTo>
                      <a:pt x="9419" y="3778"/>
                    </a:lnTo>
                    <a:lnTo>
                      <a:pt x="12800" y="2552"/>
                    </a:lnTo>
                    <a:lnTo>
                      <a:pt x="16981" y="1291"/>
                    </a:lnTo>
                    <a:lnTo>
                      <a:pt x="19123" y="661"/>
                    </a:lnTo>
                    <a:lnTo>
                      <a:pt x="21600" y="0"/>
                    </a:lnTo>
                    <a:lnTo>
                      <a:pt x="21290" y="0"/>
                    </a:lnTo>
                    <a:lnTo>
                      <a:pt x="18813" y="661"/>
                    </a:lnTo>
                    <a:lnTo>
                      <a:pt x="16516" y="1291"/>
                    </a:lnTo>
                    <a:lnTo>
                      <a:pt x="14503" y="1922"/>
                    </a:lnTo>
                    <a:lnTo>
                      <a:pt x="12490" y="2552"/>
                    </a:lnTo>
                    <a:lnTo>
                      <a:pt x="9110" y="3778"/>
                    </a:lnTo>
                    <a:lnTo>
                      <a:pt x="6168" y="4980"/>
                    </a:lnTo>
                    <a:lnTo>
                      <a:pt x="3871" y="6181"/>
                    </a:lnTo>
                    <a:lnTo>
                      <a:pt x="2168" y="7352"/>
                    </a:lnTo>
                    <a:lnTo>
                      <a:pt x="929" y="8518"/>
                    </a:lnTo>
                    <a:lnTo>
                      <a:pt x="155" y="9719"/>
                    </a:lnTo>
                    <a:lnTo>
                      <a:pt x="0" y="11010"/>
                    </a:lnTo>
                    <a:lnTo>
                      <a:pt x="310" y="12361"/>
                    </a:lnTo>
                    <a:lnTo>
                      <a:pt x="1239" y="13708"/>
                    </a:lnTo>
                    <a:lnTo>
                      <a:pt x="2942" y="15149"/>
                    </a:lnTo>
                    <a:lnTo>
                      <a:pt x="3871" y="15870"/>
                    </a:lnTo>
                    <a:lnTo>
                      <a:pt x="5084" y="16620"/>
                    </a:lnTo>
                    <a:lnTo>
                      <a:pt x="6323" y="17401"/>
                    </a:lnTo>
                    <a:lnTo>
                      <a:pt x="7871" y="18212"/>
                    </a:lnTo>
                    <a:lnTo>
                      <a:pt x="9419" y="19018"/>
                    </a:lnTo>
                    <a:lnTo>
                      <a:pt x="11277" y="19858"/>
                    </a:lnTo>
                    <a:lnTo>
                      <a:pt x="13110" y="20699"/>
                    </a:lnTo>
                    <a:lnTo>
                      <a:pt x="15277" y="21600"/>
                    </a:lnTo>
                    <a:lnTo>
                      <a:pt x="15587" y="21600"/>
                    </a:lnTo>
                    <a:lnTo>
                      <a:pt x="13419" y="20699"/>
                    </a:lnTo>
                    <a:lnTo>
                      <a:pt x="11561" y="19858"/>
                    </a:lnTo>
                    <a:lnTo>
                      <a:pt x="9729" y="19018"/>
                    </a:lnTo>
                    <a:lnTo>
                      <a:pt x="8181" y="18212"/>
                    </a:lnTo>
                    <a:lnTo>
                      <a:pt x="6632" y="17401"/>
                    </a:lnTo>
                    <a:lnTo>
                      <a:pt x="5394" y="16650"/>
                    </a:lnTo>
                    <a:lnTo>
                      <a:pt x="4155" y="15870"/>
                    </a:lnTo>
                    <a:lnTo>
                      <a:pt x="3252" y="15149"/>
                    </a:lnTo>
                    <a:lnTo>
                      <a:pt x="1548" y="13708"/>
                    </a:lnTo>
                    <a:lnTo>
                      <a:pt x="619" y="12361"/>
                    </a:lnTo>
                    <a:lnTo>
                      <a:pt x="310" y="11040"/>
                    </a:lnTo>
                    <a:lnTo>
                      <a:pt x="465" y="9749"/>
                    </a:lnTo>
                    <a:lnTo>
                      <a:pt x="465" y="9749"/>
                    </a:lnTo>
                    <a:close/>
                    <a:moveTo>
                      <a:pt x="465" y="9749"/>
                    </a:moveTo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824"/>
                  </a:moveTo>
                  <a:lnTo>
                    <a:pt x="1502" y="3480"/>
                  </a:lnTo>
                  <a:lnTo>
                    <a:pt x="3433" y="6137"/>
                  </a:lnTo>
                  <a:lnTo>
                    <a:pt x="5758" y="8793"/>
                  </a:lnTo>
                  <a:lnTo>
                    <a:pt x="8118" y="11357"/>
                  </a:lnTo>
                  <a:lnTo>
                    <a:pt x="10907" y="13998"/>
                  </a:lnTo>
                  <a:lnTo>
                    <a:pt x="13911" y="16563"/>
                  </a:lnTo>
                  <a:lnTo>
                    <a:pt x="17309" y="19127"/>
                  </a:lnTo>
                  <a:lnTo>
                    <a:pt x="20956" y="21600"/>
                  </a:lnTo>
                  <a:lnTo>
                    <a:pt x="21600" y="21600"/>
                  </a:lnTo>
                  <a:lnTo>
                    <a:pt x="17738" y="19035"/>
                  </a:lnTo>
                  <a:lnTo>
                    <a:pt x="14340" y="16379"/>
                  </a:lnTo>
                  <a:lnTo>
                    <a:pt x="11122" y="13723"/>
                  </a:lnTo>
                  <a:lnTo>
                    <a:pt x="8332" y="10991"/>
                  </a:lnTo>
                  <a:lnTo>
                    <a:pt x="5758" y="8335"/>
                  </a:lnTo>
                  <a:lnTo>
                    <a:pt x="3648" y="5587"/>
                  </a:lnTo>
                  <a:lnTo>
                    <a:pt x="1717" y="2748"/>
                  </a:lnTo>
                  <a:lnTo>
                    <a:pt x="0" y="0"/>
                  </a:lnTo>
                  <a:lnTo>
                    <a:pt x="0" y="824"/>
                  </a:lnTo>
                  <a:lnTo>
                    <a:pt x="0" y="824"/>
                  </a:lnTo>
                  <a:close/>
                  <a:moveTo>
                    <a:pt x="0" y="824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521"/>
                  </a:moveTo>
                  <a:lnTo>
                    <a:pt x="10277" y="12169"/>
                  </a:lnTo>
                  <a:lnTo>
                    <a:pt x="20458" y="21600"/>
                  </a:lnTo>
                  <a:lnTo>
                    <a:pt x="21600" y="21600"/>
                  </a:lnTo>
                  <a:lnTo>
                    <a:pt x="15891" y="16732"/>
                  </a:lnTo>
                  <a:lnTo>
                    <a:pt x="10848" y="11256"/>
                  </a:lnTo>
                  <a:lnTo>
                    <a:pt x="0" y="0"/>
                  </a:lnTo>
                  <a:lnTo>
                    <a:pt x="0" y="1521"/>
                  </a:lnTo>
                  <a:lnTo>
                    <a:pt x="0" y="1521"/>
                  </a:lnTo>
                  <a:close/>
                  <a:moveTo>
                    <a:pt x="0" y="1521"/>
                  </a:moveTo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802"/>
                  </a:lnTo>
                  <a:lnTo>
                    <a:pt x="21336" y="20149"/>
                  </a:lnTo>
                  <a:lnTo>
                    <a:pt x="21072" y="19508"/>
                  </a:lnTo>
                  <a:lnTo>
                    <a:pt x="20279" y="17984"/>
                  </a:lnTo>
                  <a:lnTo>
                    <a:pt x="19486" y="16460"/>
                  </a:lnTo>
                  <a:lnTo>
                    <a:pt x="17527" y="13557"/>
                  </a:lnTo>
                  <a:lnTo>
                    <a:pt x="15017" y="10873"/>
                  </a:lnTo>
                  <a:lnTo>
                    <a:pt x="12374" y="8333"/>
                  </a:lnTo>
                  <a:lnTo>
                    <a:pt x="9490" y="6023"/>
                  </a:lnTo>
                  <a:lnTo>
                    <a:pt x="6451" y="3846"/>
                  </a:lnTo>
                  <a:lnTo>
                    <a:pt x="3303" y="1814"/>
                  </a:lnTo>
                  <a:lnTo>
                    <a:pt x="264" y="0"/>
                  </a:lnTo>
                  <a:lnTo>
                    <a:pt x="0" y="0"/>
                  </a:lnTo>
                  <a:lnTo>
                    <a:pt x="3039" y="1814"/>
                  </a:lnTo>
                  <a:lnTo>
                    <a:pt x="6055" y="3846"/>
                  </a:lnTo>
                  <a:lnTo>
                    <a:pt x="9094" y="6023"/>
                  </a:lnTo>
                  <a:lnTo>
                    <a:pt x="12000" y="8333"/>
                  </a:lnTo>
                  <a:lnTo>
                    <a:pt x="14752" y="10873"/>
                  </a:lnTo>
                  <a:lnTo>
                    <a:pt x="17130" y="13557"/>
                  </a:lnTo>
                  <a:lnTo>
                    <a:pt x="19222" y="16460"/>
                  </a:lnTo>
                  <a:lnTo>
                    <a:pt x="20015" y="17984"/>
                  </a:lnTo>
                  <a:lnTo>
                    <a:pt x="20807" y="19580"/>
                  </a:lnTo>
                  <a:lnTo>
                    <a:pt x="21204" y="20584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987"/>
                  </a:lnTo>
                  <a:lnTo>
                    <a:pt x="17292" y="15465"/>
                  </a:lnTo>
                  <a:lnTo>
                    <a:pt x="12231" y="10123"/>
                  </a:lnTo>
                  <a:lnTo>
                    <a:pt x="6658" y="4908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6296" y="5061"/>
                  </a:lnTo>
                  <a:lnTo>
                    <a:pt x="12050" y="10429"/>
                  </a:lnTo>
                  <a:lnTo>
                    <a:pt x="17111" y="15925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1600"/>
                  </a:moveTo>
                  <a:lnTo>
                    <a:pt x="21600" y="20661"/>
                  </a:lnTo>
                  <a:lnTo>
                    <a:pt x="11782" y="10017"/>
                  </a:lnTo>
                  <a:lnTo>
                    <a:pt x="637" y="0"/>
                  </a:lnTo>
                  <a:lnTo>
                    <a:pt x="0" y="0"/>
                  </a:lnTo>
                  <a:lnTo>
                    <a:pt x="5732" y="5322"/>
                  </a:lnTo>
                  <a:lnTo>
                    <a:pt x="11463" y="10643"/>
                  </a:lnTo>
                  <a:lnTo>
                    <a:pt x="21600" y="21600"/>
                  </a:lnTo>
                  <a:lnTo>
                    <a:pt x="21600" y="21600"/>
                  </a:lnTo>
                  <a:close/>
                  <a:moveTo>
                    <a:pt x="21600" y="2160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0864"/>
                  </a:moveTo>
                  <a:lnTo>
                    <a:pt x="0" y="21600"/>
                  </a:lnTo>
                  <a:lnTo>
                    <a:pt x="1364" y="18565"/>
                  </a:lnTo>
                  <a:lnTo>
                    <a:pt x="3183" y="15529"/>
                  </a:lnTo>
                  <a:lnTo>
                    <a:pt x="5432" y="12678"/>
                  </a:lnTo>
                  <a:lnTo>
                    <a:pt x="7857" y="9919"/>
                  </a:lnTo>
                  <a:lnTo>
                    <a:pt x="10888" y="7266"/>
                  </a:lnTo>
                  <a:lnTo>
                    <a:pt x="14046" y="4783"/>
                  </a:lnTo>
                  <a:lnTo>
                    <a:pt x="17684" y="2300"/>
                  </a:lnTo>
                  <a:lnTo>
                    <a:pt x="21600" y="0"/>
                  </a:lnTo>
                  <a:lnTo>
                    <a:pt x="21145" y="0"/>
                  </a:lnTo>
                  <a:lnTo>
                    <a:pt x="17381" y="2208"/>
                  </a:lnTo>
                  <a:lnTo>
                    <a:pt x="13895" y="4599"/>
                  </a:lnTo>
                  <a:lnTo>
                    <a:pt x="10737" y="7082"/>
                  </a:lnTo>
                  <a:lnTo>
                    <a:pt x="7857" y="9643"/>
                  </a:lnTo>
                  <a:lnTo>
                    <a:pt x="5432" y="12310"/>
                  </a:lnTo>
                  <a:lnTo>
                    <a:pt x="3335" y="15069"/>
                  </a:lnTo>
                  <a:lnTo>
                    <a:pt x="1516" y="17921"/>
                  </a:lnTo>
                  <a:lnTo>
                    <a:pt x="0" y="20864"/>
                  </a:lnTo>
                  <a:lnTo>
                    <a:pt x="0" y="20864"/>
                  </a:lnTo>
                  <a:close/>
                  <a:moveTo>
                    <a:pt x="0" y="20864"/>
                  </a:move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937" y="0"/>
                  </a:lnTo>
                  <a:lnTo>
                    <a:pt x="15002" y="4760"/>
                  </a:lnTo>
                  <a:lnTo>
                    <a:pt x="9473" y="9736"/>
                  </a:lnTo>
                  <a:lnTo>
                    <a:pt x="4423" y="15145"/>
                  </a:lnTo>
                  <a:lnTo>
                    <a:pt x="0" y="20735"/>
                  </a:lnTo>
                  <a:lnTo>
                    <a:pt x="0" y="21600"/>
                  </a:lnTo>
                  <a:lnTo>
                    <a:pt x="4423" y="15578"/>
                  </a:lnTo>
                  <a:lnTo>
                    <a:pt x="9473" y="10169"/>
                  </a:lnTo>
                  <a:lnTo>
                    <a:pt x="15223" y="497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155" y="0"/>
                  </a:lnTo>
                  <a:lnTo>
                    <a:pt x="9636" y="9771"/>
                  </a:lnTo>
                  <a:lnTo>
                    <a:pt x="4818" y="14914"/>
                  </a:lnTo>
                  <a:lnTo>
                    <a:pt x="0" y="20057"/>
                  </a:lnTo>
                  <a:lnTo>
                    <a:pt x="0" y="21600"/>
                  </a:lnTo>
                  <a:lnTo>
                    <a:pt x="10117" y="10286"/>
                  </a:lnTo>
                  <a:lnTo>
                    <a:pt x="2160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0" y="436392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40" y="3740040"/>
              <a:ext cx="9140760" cy="1800"/>
            </a:xfrm>
            <a:prstGeom prst="line">
              <a:avLst/>
            </a:prstGeom>
            <a:ln w="1584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98780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1440" y="622440"/>
              <a:ext cx="9140760" cy="2495520"/>
              <a:chOff x="1440" y="622440"/>
              <a:chExt cx="9140760" cy="2495520"/>
            </a:xfrm>
          </p:grpSpPr>
          <p:sp>
            <p:nvSpPr>
              <p:cNvPr id="69" name=""/>
              <p:cNvSpPr/>
              <p:nvPr/>
            </p:nvSpPr>
            <p:spPr>
              <a:xfrm>
                <a:off x="1440" y="124488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40" y="311652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40" y="24926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186876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622440"/>
                <a:ext cx="9140760" cy="144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440" y="623556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0" y="5611680"/>
              <a:ext cx="9140760" cy="1800"/>
            </a:xfrm>
            <a:prstGeom prst="line">
              <a:avLst/>
            </a:prstGeom>
            <a:ln w="15840">
              <a:solidFill>
                <a:srgbClr val="003b7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2"/>
          </p:nvPr>
        </p:nvSpPr>
        <p:spPr>
          <a:xfrm>
            <a:off x="7480080" y="6243480"/>
            <a:ext cx="27612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EE8F-6D57-4689-AFD6-96DB554B16D3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8112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08108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3828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dcc"/>
                </a:solidFill>
                <a:uFillTx/>
                <a:latin typeface="Arial Bold"/>
                <a:ea typeface="Arial Bold"/>
              </a:rPr>
              <a:t>Pax Mongo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6174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1200’s and 1300s: Mongols pushed peace and order across Eur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7400" indent="-577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rs, travelers and missionaries enjoyed safety along the Silk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7400" indent="-5778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Trade between Europe and Asia went up but disease sp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64008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167652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dcc"/>
                </a:solidFill>
                <a:uFillTx/>
                <a:latin typeface="Arial"/>
              </a:rPr>
              <a:t>Kublai K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1260: named Great Khan; grandson of Geng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He reserved gov’t jobs for Mongols.  The Chinese resented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94520" y="0"/>
            <a:ext cx="2949480" cy="327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457200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Arial"/>
              </a:rPr>
              <a:t>Khan attempted to invade Japan but was defeated after 5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ical Wind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h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11720" y="1473120"/>
            <a:ext cx="3409920" cy="207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714840" y="3352680"/>
            <a:ext cx="54291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Khan ada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blai Khan adapts to Chines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d90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Used Chinese advisors but gave high positions to Mong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d90b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Expands trade over Silk R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50496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cc"/>
                </a:solidFill>
                <a:latin typeface="Arial"/>
              </a:rPr>
              <a:t>End of the Mong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240" y="166320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ath of Khan, over time the Mongols grew weak and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Mongols could not agree on new ru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d90b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00"/>
                </a:solidFill>
                <a:latin typeface="Arial"/>
              </a:rPr>
              <a:t>Rebellions started against Mongols and fami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9640" y="1295280"/>
            <a:ext cx="31971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ussellt</dc:creator>
  <dc:description/>
  <dc:language>en-US</dc:language>
  <cp:lastModifiedBy/>
  <cp:revision>0</cp:revision>
  <dc:subject/>
  <dc:title>The Mongols</dc:title>
</cp:coreProperties>
</file>